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5784-F753-4D4E-82FA-024D0B3A5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0253-A409-427D-A602-AE50DA6BD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13AE-8D1E-49CF-BDB6-AED23B44B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rief with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e about follow-up with expectations and processes – just a reminder to include process expectations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0C3F-966C-4C53-969F-DE9719674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197C-8D31-4162-9EA1-E8864331F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B8C0-6BB9-4887-AD17-EE41DC2B8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25 minutes – do you think this is enough?  Also, rather than have them write all the BI and expectations, lets have them code it someway to make it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D0B1-A018-40B6-A51B-9AC74E04D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115 minutes, split up by l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788B-EE6C-4D9D-B254-B1AA172FC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olidate –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CA07-3F89-49E5-BDF8-0A2F8CE4D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ED7F-523C-456F-B607-441AD8727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942-8B88-4A0B-873E-7F7988F4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63D-09F8-45BC-88DD-CD0B144B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8D1-5150-4B55-960B-A408D218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BDB-9399-4BFF-8547-960C6473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D584-9DB3-4710-A613-0C85DBD4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D2BE-0E85-4BBA-841A-4E811F30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EC4B-4ABF-4329-A45C-A558EA43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A6DD-4C46-435A-8CD2-1B439F8A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56C9-6F4F-4B65-8673-3B2262AF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2973-92A5-409A-9AA6-6CB3CCE5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F9CE-049D-42BE-9D78-87734676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155-91B1-4676-97D8-B7F48BF2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C1CB-C90B-4CF8-BCD9-20B3FA22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04D1-D739-490C-BC7A-4B4F0E23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4F98-8A66-4308-8E4D-43D39E99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C793-3709-4CE6-8304-602769EC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652A-39C8-499F-9A00-17000407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E8A9-B431-47C7-BC51-B45A876D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E2DB-E237-4334-A777-13E1C14E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AF0F-F381-4F7A-AD7E-4019EF15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680-4BDE-4345-B35E-ECB9757A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CC7-E645-4A1E-A98C-AC3C44E2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411-C414-40AE-A36A-89DBCF36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7D60-7599-4CDD-9AA7-A322E6B2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0AFC-D0DE-4A30-8321-3D2C7A008E1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6B30-4C6D-4BF2-9A3A-6FF16234077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Modelling in a </a:t>
            </a:r>
            <a:br>
              <a:rPr sz="4800"/>
            </a:b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arallel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&lt;&lt;insert exit card graphic here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posing parallel and ope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ine understanding of how different representations of relationships highlight different characteristics or behaviours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light the importance of being conscious and explicit about the instructional decisions; specifically, the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&lt;&lt;insert 11U task from BLM QR.3.1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357120" y="1571760"/>
            <a:ext cx="8358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	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	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       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Parallel Tasks con’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one of the parallel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m a group with others working on the sam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lete the task by selecting one of the questions and then prompt each other using the follow-up questions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ch the parallel task to a big idea and then find all the expectations that are addressed by the two parallel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Parallel Task </a:t>
            </a:r>
            <a:br>
              <a:rPr sz="4400"/>
            </a:b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4 U 2 do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ntify one struggle from yesterday and the corresponding expectations that you would like to consider fur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a like-minded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one parallel task as well as the follow-u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lgebra Til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&lt;&lt;need to develop the sequence for this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Revisiting l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in with another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change parallel tasks for feedback, using the prob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suggestions on stick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357120" y="1571760"/>
            <a:ext cx="8358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	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	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       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s.yearley</cp:lastModifiedBy>
  <dcterms:modified xsi:type="dcterms:W3CDTF">2009-07-19T19:04:17Z</dcterms:modified>
  <cp:revision>108</cp:revision>
  <dc:subject/>
  <dc:title>Slide 1</dc:title>
</cp:coreProperties>
</file>